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4071-8D0F-4E4D-BED6-091312C4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171-8652-49F2-913D-BBE376DB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E09-36C7-4C86-B3CA-C8DEF857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3C4-DDB3-45D8-AD52-43FDCD70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5122-2250-43B3-BAFB-0ECEC4E4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3717-3154-4951-AC1E-3F4C3C33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F88E-278A-4241-AFD8-F57D01FE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5561-11D7-4B50-B055-30A5432D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11D7-81A0-4BB9-92AD-37C7C835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4508-EB5D-471E-A0E3-FC4CF4E7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FE8D-C651-47CC-A585-FBACEE1D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D17B-06DB-45D1-9E2B-09FCCC3F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7AF5-DF99-4E62-A026-78AE78C7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02EC-E665-4DDD-81AC-6F834F3A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583B-BC74-4915-AEB2-4581C8DF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376E-CCC9-4873-A033-FDE1F4B8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A856-FF6D-4F2E-9F4F-46D7D321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ED7-8A7B-49C4-8DFE-1780BD72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6E9-B06D-4188-BDC4-52BE5E1A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5E2-575A-4E58-8415-66749C08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18BA-034A-4AF1-B00D-B6F52B16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91D-3609-447E-93FE-FD8E9DDC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A29-721A-4E5E-A98B-B2FA9CCF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545E-70D5-41F8-8D78-FE87AEFF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E427-492E-467C-881A-161B0C6967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239D-D20C-4818-9BAD-05F9D7F8B1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УПРАВЉАЊ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ТРОШКОВИМ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уштина ТСМ присту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прављања трошкови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мално извршење обавеза уз ниске трошков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сок квалитет производа/услуг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јкраће могуће вр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Управљање трошковим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је осмишљења стратегија праћења, анализе и контроле трошкова у једној организациј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трошк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сплицитн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мплицитни (опортунитет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абилн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Неконтрабил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рочн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Дугороч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иректн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Индирект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60" name="image1.png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времени приступ управљању трошковима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С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иступ (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Total Cost Management Approac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ли тотално управљање  трошков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ндан је тоталном управљању квалитетом (TQM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OTAL подразумева примену ТСМ програма у целом предузећу и на све запосле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мум тражи на нивоу предузећа, а не на нивоу појединих организационих де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поручуј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одел '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'3Т – 3С – 3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' за ефикасну примену ТСМ приступ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управљања трошков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66" name="image2.png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тално управљање трошковима се постиже преко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ри компонент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зв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Top Managemen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ухвата оцену садашњег окружења, садашњег функционисања, пословне филозофије и организационе структуре предузећа, а затим, делегирање задатака средњем менаџмен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Timely Reward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ухвата правовремени наградни систем у циљу афирмације иновација, креативности, организационе културе темељене на ТСМ приступ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Technolog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тиче на конкурентску способност предузећ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(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рошкови) су условљени су тзв. </a:t>
            </a:r>
            <a:r>
              <a:rPr b="0" lang="sr-RS" sz="2200" spc="-1" strike="noStrike">
                <a:solidFill>
                  <a:srgbClr val="0000ff"/>
                </a:solidFill>
                <a:latin typeface="Arial"/>
              </a:rPr>
              <a:t>3С компонентам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mit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СМ захтева од свих запослених управљање обавезама: контрола пословања, перманентно образовање, стимулативно награђивање, што води непрекидном снижењу трошкова. У основи је превентивна контрола – спречавање настајања непотребних трошк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ntinuous Educ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одстиче иновације за смањење трошкова и организациону културу која вреднује снижење трошк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ult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вај приступ подстиче стварање друштвене и организационе културе која непрекидно снижава трошкове, побољшава квалитет производа и време производње и дистрибуц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трошков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3М компонент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бухватај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Missio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ТСМ приступ укључује мисију и дугорочне циљеве предузећ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Monitor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се састоји од самоконтроле и контроле једнаких. Сваки запослени врши самоконтролу  упоређивањем остварених са предвиђеним трошковима, а контрола једнаких подразумева да запослени контролишу  претходног  запосленог, чиме се учињена грешка благовремено отклања, и спречава ''зидање'' трошк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Mechanism of Change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технолошке и организационе промене су веома утицајан фактор на примену ТСМ. У ту сврху се отклањају статусне разлике, на пример, једнаке радне унифор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30T00:30:35Z</dcterms:modified>
  <cp:revision>170</cp:revision>
  <dc:subject/>
  <dc:title>Soft and Hard Skills Development: A Current Situation in Serbian Companies</dc:title>
</cp:coreProperties>
</file>